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47520" y="420192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044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68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984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4752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68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984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847520" y="1819080"/>
            <a:ext cx="6953400" cy="45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69534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1440" y="256680"/>
            <a:ext cx="8439480" cy="3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47520" y="1819080"/>
            <a:ext cx="6953400" cy="45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1044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847520" y="420192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1044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9868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4984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84752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9868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4984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69534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1440" y="256680"/>
            <a:ext cx="8439480" cy="3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044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5f1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47520" y="1819080"/>
            <a:ext cx="69534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1" marL="676080" indent="-25992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2" marL="1040040" indent="-20772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3" marL="1455840" indent="-20772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4" marL="1872000" indent="-20772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5" marL="1872000" indent="-20772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6" marL="1872000" indent="-20772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"/>
          <p:cNvSpPr/>
          <p:nvPr/>
        </p:nvSpPr>
        <p:spPr>
          <a:xfrm>
            <a:off x="438120" y="998640"/>
            <a:ext cx="8363160" cy="2588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9680" y="648180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1396-1A84-4E81-8D6D-F35DFC0BA8E3}" type="slidenum">
              <a:rPr b="1" lang="pt-PT" sz="10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5f1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120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3" name=""/>
          <p:cNvSpPr/>
          <p:nvPr/>
        </p:nvSpPr>
        <p:spPr>
          <a:xfrm>
            <a:off x="885960" y="2911320"/>
            <a:ext cx="7381800" cy="1828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1" marL="457200" indent="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Garamond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3" marL="1371600" algn="ctr">
              <a:lnSpc>
                <a:spcPct val="11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Garamond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Garamond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0000ff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aramond"/>
              </a:rPr>
              <a:t>Fifth Outline Level</a:t>
            </a:r>
            <a:endParaRPr b="1" lang="en-US" sz="1600" spc="-1" strike="noStrike">
              <a:solidFill>
                <a:srgbClr val="0000ff"/>
              </a:solidFill>
              <a:latin typeface="Garamond"/>
            </a:endParaRPr>
          </a:p>
          <a:p>
            <a:pPr lvl="5" marL="1828800">
              <a:spcBef>
                <a:spcPts val="400"/>
              </a:spcBef>
              <a:buClr>
                <a:srgbClr val="66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aramond"/>
              </a:rPr>
              <a:t>Sixth Outline Level</a:t>
            </a:r>
            <a:endParaRPr b="1" lang="en-US" sz="1600" spc="-1" strike="noStrike">
              <a:solidFill>
                <a:srgbClr val="0000ff"/>
              </a:solidFill>
              <a:latin typeface="Garamond"/>
            </a:endParaRPr>
          </a:p>
          <a:p>
            <a:pPr lvl="6" marL="1828800">
              <a:spcBef>
                <a:spcPts val="400"/>
              </a:spcBef>
              <a:buClr>
                <a:srgbClr val="66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aramond"/>
              </a:rPr>
              <a:t>Seventh Outline Level</a:t>
            </a:r>
            <a:endParaRPr b="1" lang="en-US" sz="16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1.wmf"/><Relationship Id="rId4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7.wmf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6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70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66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72.wmf"/><Relationship Id="rId5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5.wmf"/><Relationship Id="rId2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8760" y="1099800"/>
            <a:ext cx="78152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ff"/>
                </a:solidFill>
                <a:latin typeface="Garamond"/>
              </a:rPr>
              <a:t>Sistemas Holónicos de Produção</a:t>
            </a:r>
            <a:endParaRPr b="1" lang="en-US" sz="4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979360" y="3165120"/>
            <a:ext cx="5335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Arial"/>
              </a:rPr>
              <a:t>Nuno Silva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"/>
          <p:cNvSpPr/>
          <p:nvPr/>
        </p:nvSpPr>
        <p:spPr>
          <a:xfrm>
            <a:off x="789120" y="1897200"/>
            <a:ext cx="7815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Escalonamento usando uma abordagem</a:t>
            </a:r>
            <a:br>
              <a:rPr sz="2400"/>
            </a:b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baseada em Sistemas Multi-Agent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87520" y="4600440"/>
            <a:ext cx="456588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Times New Roman"/>
              </a:rPr>
              <a:t>Agentes Inteligentes e Sistemas Cooperativos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Times New Roman"/>
              </a:rPr>
              <a:t>DEI- ISEP- IPP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0000"/>
                </a:solidFill>
                <a:latin typeface="Times New Roman"/>
              </a:rPr>
              <a:t>07 de Janeiro de 2000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Sequenciação e Escolha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076480" y="1905120"/>
          <a:ext cx="564840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6480" y="1905120"/>
                    <a:ext cx="564840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Conclusões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66440" y="1738440"/>
            <a:ext cx="6953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Garamond"/>
              </a:rPr>
              <a:t>Características:</a:t>
            </a:r>
            <a:endParaRPr b="1" lang="en-US" sz="2800" spc="-1" strike="noStrike">
              <a:solidFill>
                <a:srgbClr val="0000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Descentralizaçã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Sub-especificaçã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Autonomia das entidades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Garamond"/>
              </a:rPr>
              <a:t>Dinâmica:</a:t>
            </a:r>
            <a:endParaRPr b="1" lang="en-US" sz="2800" spc="-1" strike="noStrike">
              <a:solidFill>
                <a:srgbClr val="0000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Propagação de Restrições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Mecanismos de mercad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93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Conclusões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Introdução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47520" y="1919160"/>
            <a:ext cx="6953400" cy="38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0c0c0"/>
                </a:solidFill>
                <a:latin typeface="Garamond"/>
              </a:rPr>
              <a:t>Motivações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0c0c0"/>
                </a:solidFill>
                <a:latin typeface="Garamond"/>
              </a:rPr>
              <a:t>Conceitos Propostos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Desenvolvimento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Conclusões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c0c0c0"/>
                </a:solidFill>
                <a:latin typeface="Garamond"/>
              </a:rPr>
              <a:t>Direcções Futuras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>
            <a:off x="6894360" y="1001880"/>
            <a:ext cx="1874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Introduçã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987480" y="2341440"/>
          <a:ext cx="2147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341440"/>
                    <a:ext cx="2147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96880" y="1657440"/>
          <a:ext cx="6199200" cy="35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880" y="1657440"/>
                    <a:ext cx="61992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205080" y="2054160"/>
          <a:ext cx="2181240" cy="28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5080" y="2054160"/>
                    <a:ext cx="218124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62000" y="1384200"/>
          <a:ext cx="6958080" cy="472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000" y="1384200"/>
                    <a:ext cx="695808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822400" y="1635120"/>
          <a:ext cx="5996160" cy="354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22400" y="1635120"/>
                    <a:ext cx="599616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Visão geral - arquitectura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30120" y="1805040"/>
            <a:ext cx="7883640" cy="4164120"/>
            <a:chOff x="330120" y="1805040"/>
            <a:chExt cx="7883640" cy="4164120"/>
          </a:xfrm>
        </p:grpSpPr>
        <p:graphicFrame>
          <p:nvGraphicFramePr>
            <p:cNvPr id="100" name=""/>
            <p:cNvGraphicFramePr/>
            <p:nvPr/>
          </p:nvGraphicFramePr>
          <p:xfrm>
            <a:off x="330120" y="3736800"/>
            <a:ext cx="4981680" cy="2232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0120" y="3736800"/>
                      <a:ext cx="4981680" cy="223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911160" y="2022480"/>
            <a:ext cx="5294520" cy="3106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911160" y="2022480"/>
                      <a:ext cx="5294520" cy="31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6394320" y="1805040"/>
            <a:ext cx="1819440" cy="3056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94320" y="1805040"/>
                      <a:ext cx="1819440" cy="30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6" name=""/>
          <p:cNvGraphicFramePr/>
          <p:nvPr/>
        </p:nvGraphicFramePr>
        <p:xfrm>
          <a:off x="3778200" y="2109960"/>
          <a:ext cx="2768760" cy="257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78200" y="2109960"/>
                    <a:ext cx="276876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259760" y="5032440"/>
          <a:ext cx="1466640" cy="1350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59760" y="5032440"/>
                    <a:ext cx="146664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69800" y="1649520"/>
          <a:ext cx="8178840" cy="37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49520"/>
                    <a:ext cx="8178840" cy="37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00120" y="3233880"/>
          <a:ext cx="8569440" cy="32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120" y="3233880"/>
                    <a:ext cx="856944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417760" y="3141720"/>
          <a:ext cx="3646440" cy="275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7760" y="3141720"/>
                    <a:ext cx="364644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63560" y="1741320"/>
          <a:ext cx="3729240" cy="288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560" y="1741320"/>
                    <a:ext cx="372924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Visão geral – dinâmica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10480" y="3675240"/>
          <a:ext cx="747720" cy="25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10480" y="3675240"/>
                    <a:ext cx="7477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351560" y="3630600"/>
          <a:ext cx="1214640" cy="232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51560" y="3630600"/>
                    <a:ext cx="12146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95440" y="1371600"/>
          <a:ext cx="1336680" cy="107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5440" y="1371600"/>
                    <a:ext cx="13366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635120" y="2301840"/>
          <a:ext cx="866880" cy="79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35120" y="2301840"/>
                    <a:ext cx="8668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446200" y="3089160"/>
          <a:ext cx="881280" cy="784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46200" y="3089160"/>
                    <a:ext cx="8812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001960" y="3021120"/>
          <a:ext cx="790560" cy="452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01960" y="3021120"/>
                    <a:ext cx="7905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806560" y="2200320"/>
          <a:ext cx="1702080" cy="961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06560" y="2200320"/>
                    <a:ext cx="170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703680" y="2728800"/>
          <a:ext cx="2381040" cy="50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03680" y="2728800"/>
                    <a:ext cx="238104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962440" y="3154320"/>
          <a:ext cx="2887560" cy="600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962440" y="3154320"/>
                    <a:ext cx="28875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959280" y="2173320"/>
          <a:ext cx="1917720" cy="839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59280" y="2173320"/>
                    <a:ext cx="19177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076640" y="3137040"/>
          <a:ext cx="2916360" cy="2749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76640" y="3137040"/>
                    <a:ext cx="291636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994040" y="4159080"/>
          <a:ext cx="647640" cy="2060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94040" y="4159080"/>
                    <a:ext cx="64764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808200" y="4290840"/>
          <a:ext cx="1257120" cy="16513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08200" y="4290840"/>
                    <a:ext cx="1257120" cy="16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986120" y="1992240"/>
          <a:ext cx="2514600" cy="425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86120" y="1992240"/>
                    <a:ext cx="25146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122800" y="1930320"/>
          <a:ext cx="3189240" cy="1067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122800" y="1930320"/>
                    <a:ext cx="31892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075200" y="3138480"/>
          <a:ext cx="2916000" cy="2749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075200" y="3138480"/>
                    <a:ext cx="291600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417760" y="3141720"/>
          <a:ext cx="3646440" cy="27590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417760" y="3141720"/>
                    <a:ext cx="364644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5268960" y="2637000"/>
          <a:ext cx="169236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8960" y="2637000"/>
                    <a:ext cx="169236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129280" y="2638440"/>
          <a:ext cx="79056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29280" y="2638440"/>
                    <a:ext cx="7905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75440" y="2638440"/>
          <a:ext cx="280188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75440" y="2638440"/>
                    <a:ext cx="28018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Centralizado Vs. Descentralizado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51240" y="3754440"/>
          <a:ext cx="186048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51240" y="3754440"/>
                    <a:ext cx="1860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008680" y="3754440"/>
          <a:ext cx="2060280" cy="58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8680" y="3754440"/>
                    <a:ext cx="2060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460840" y="5421240"/>
          <a:ext cx="2851200" cy="585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60840" y="5421240"/>
                    <a:ext cx="28512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7369200" y="3745080"/>
          <a:ext cx="1326960" cy="585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69200" y="3745080"/>
                    <a:ext cx="1326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097080" y="5497560"/>
          <a:ext cx="606600" cy="585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97080" y="5497560"/>
                    <a:ext cx="606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671920" y="2629080"/>
          <a:ext cx="790560" cy="1180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71920" y="2629080"/>
                    <a:ext cx="79056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300480" y="2629080"/>
          <a:ext cx="790560" cy="1180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00480" y="2629080"/>
                    <a:ext cx="79056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972040" y="1444680"/>
            <a:ext cx="164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470560" y="1276920"/>
            <a:ext cx="2851200" cy="1415520"/>
            <a:chOff x="5470560" y="1276920"/>
            <a:chExt cx="2851200" cy="1415520"/>
          </a:xfrm>
        </p:grpSpPr>
        <p:sp>
          <p:nvSpPr>
            <p:cNvPr id="179" name=""/>
            <p:cNvSpPr/>
            <p:nvPr/>
          </p:nvSpPr>
          <p:spPr>
            <a:xfrm>
              <a:off x="5791320" y="1276920"/>
              <a:ext cx="218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ff"/>
                  </a:solidFill>
                  <a:latin typeface="Garamond"/>
                </a:rPr>
                <a:t>Descentralizado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5470560" y="2106720"/>
            <a:ext cx="2851200" cy="585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470560" y="2106720"/>
                      <a:ext cx="28512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2" name=""/>
          <p:cNvGrpSpPr/>
          <p:nvPr/>
        </p:nvGrpSpPr>
        <p:grpSpPr>
          <a:xfrm>
            <a:off x="2571840" y="1276920"/>
            <a:ext cx="1647720" cy="1405800"/>
            <a:chOff x="2571840" y="1276920"/>
            <a:chExt cx="1647720" cy="1405800"/>
          </a:xfrm>
        </p:grpSpPr>
        <p:sp>
          <p:nvSpPr>
            <p:cNvPr id="183" name=""/>
            <p:cNvSpPr/>
            <p:nvPr/>
          </p:nvSpPr>
          <p:spPr>
            <a:xfrm>
              <a:off x="2571840" y="1276920"/>
              <a:ext cx="164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ff"/>
                  </a:solidFill>
                  <a:latin typeface="Garamond"/>
                </a:rPr>
                <a:t>Centralizado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aphicFrame>
          <p:nvGraphicFramePr>
            <p:cNvPr id="184" name=""/>
            <p:cNvGraphicFramePr/>
            <p:nvPr/>
          </p:nvGraphicFramePr>
          <p:xfrm>
            <a:off x="3087720" y="2097000"/>
            <a:ext cx="606240" cy="585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087720" y="2097000"/>
                      <a:ext cx="60624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6" name=""/>
          <p:cNvGraphicFramePr/>
          <p:nvPr/>
        </p:nvGraphicFramePr>
        <p:xfrm>
          <a:off x="5505480" y="2627280"/>
          <a:ext cx="3085920" cy="1184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5480" y="2627280"/>
                    <a:ext cx="30859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670120" y="4280040"/>
          <a:ext cx="1420920" cy="1269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70120" y="4280040"/>
                    <a:ext cx="142092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122800" y="4297320"/>
          <a:ext cx="3449880" cy="1176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122800" y="4297320"/>
                    <a:ext cx="344988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201600" y="1338120"/>
            <a:ext cx="1658880" cy="4786560"/>
            <a:chOff x="201600" y="1338120"/>
            <a:chExt cx="1658880" cy="4786560"/>
          </a:xfrm>
        </p:grpSpPr>
        <p:graphicFrame>
          <p:nvGraphicFramePr>
            <p:cNvPr id="193" name=""/>
            <p:cNvGraphicFramePr/>
            <p:nvPr/>
          </p:nvGraphicFramePr>
          <p:xfrm>
            <a:off x="201600" y="2124000"/>
            <a:ext cx="1658880" cy="4000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01600" y="2124000"/>
                      <a:ext cx="1658880" cy="400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209520" y="1338120"/>
              <a:ext cx="164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0000ff"/>
                  </a:solidFill>
                  <a:latin typeface="Garamond"/>
                </a:rPr>
                <a:t>Grafo de Precedências</a:t>
              </a:r>
              <a:endParaRPr b="0" lang="en-US" sz="1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Método de escalonamento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69534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Garamond"/>
              </a:rPr>
              <a:t>4 </a:t>
            </a: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Fases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Influência directa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Influência inversa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Sequenciament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Garamond"/>
              </a:rPr>
              <a:t>Sele</a:t>
            </a: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cçã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Influência directa e indirecta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0" y="1514520"/>
          <a:ext cx="471024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0" y="1514520"/>
                    <a:ext cx="471024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639880" y="4011480"/>
          <a:ext cx="4835520" cy="22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9880" y="4011480"/>
                    <a:ext cx="483552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235240" y="3914640"/>
            <a:ext cx="172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ackward Influence phase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2400" y="1371600"/>
            <a:ext cx="163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orward Influence phase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691080" y="5661000"/>
          <a:ext cx="306864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1080" y="5661000"/>
                    <a:ext cx="30686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506760" y="2643120"/>
          <a:ext cx="3068640" cy="10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6760" y="2643120"/>
                    <a:ext cx="306864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395440" y="1057320"/>
          <a:ext cx="567684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5440" y="1057320"/>
                    <a:ext cx="567684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513240" y="2643120"/>
          <a:ext cx="3068640" cy="108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3240" y="2643120"/>
                    <a:ext cx="306864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265560" y="1233360"/>
            <a:ext cx="4491000" cy="5637240"/>
            <a:chOff x="3265560" y="1233360"/>
            <a:chExt cx="4491000" cy="5637240"/>
          </a:xfrm>
        </p:grpSpPr>
        <p:graphicFrame>
          <p:nvGraphicFramePr>
            <p:cNvPr id="214" name=""/>
            <p:cNvGraphicFramePr/>
            <p:nvPr/>
          </p:nvGraphicFramePr>
          <p:xfrm>
            <a:off x="4795920" y="1233360"/>
            <a:ext cx="865080" cy="784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95920" y="1233360"/>
                      <a:ext cx="865080" cy="78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"/>
            <p:cNvGraphicFramePr/>
            <p:nvPr/>
          </p:nvGraphicFramePr>
          <p:xfrm>
            <a:off x="4657680" y="6046920"/>
            <a:ext cx="1004760" cy="823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57680" y="6046920"/>
                      <a:ext cx="1004760" cy="82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6964200" y="1482840"/>
            <a:ext cx="792360" cy="865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64200" y="1482840"/>
                      <a:ext cx="792360" cy="86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3265560" y="3375000"/>
            <a:ext cx="3487680" cy="579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265560" y="3375000"/>
                      <a:ext cx="348768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2" name=""/>
          <p:cNvGraphicFramePr/>
          <p:nvPr/>
        </p:nvGraphicFramePr>
        <p:xfrm>
          <a:off x="2622600" y="3822840"/>
          <a:ext cx="5121360" cy="691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22600" y="3822840"/>
                    <a:ext cx="512136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686040" y="4317840"/>
          <a:ext cx="3068640" cy="1089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86040" y="4317840"/>
                    <a:ext cx="3068640" cy="10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500280" y="5046840"/>
          <a:ext cx="3265560" cy="890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00280" y="5046840"/>
                    <a:ext cx="3265560" cy="89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500280" y="2166840"/>
          <a:ext cx="3562560" cy="754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00280" y="2166840"/>
                    <a:ext cx="35625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Influência directa e indirecta (2)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275440" y="2428920"/>
          <a:ext cx="628560" cy="449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75440" y="2428920"/>
                    <a:ext cx="6285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85760" y="1459080"/>
          <a:ext cx="1657440" cy="5146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85760" y="1459080"/>
                    <a:ext cx="165744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972040" y="5345280"/>
          <a:ext cx="827280" cy="4712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972040" y="5345280"/>
                    <a:ext cx="827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048360" y="2419200"/>
          <a:ext cx="628560" cy="449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48360" y="2419200"/>
                    <a:ext cx="6285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194520" y="4102200"/>
          <a:ext cx="763560" cy="317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194520" y="4102200"/>
                    <a:ext cx="7635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261200" y="3998880"/>
          <a:ext cx="569880" cy="420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261200" y="3998880"/>
                    <a:ext cx="5698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332840" y="4043520"/>
          <a:ext cx="502920" cy="347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32840" y="4043520"/>
                    <a:ext cx="50292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686040" y="4317840"/>
          <a:ext cx="3068640" cy="10893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686040" y="4317840"/>
                    <a:ext cx="3068640" cy="10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983040" y="1854360"/>
          <a:ext cx="3068640" cy="5810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983040" y="1854360"/>
                    <a:ext cx="30686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094200" y="3984480"/>
          <a:ext cx="755640" cy="4464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94200" y="3984480"/>
                    <a:ext cx="75564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7716960" y="1963800"/>
          <a:ext cx="763560" cy="317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716960" y="1963800"/>
                    <a:ext cx="7635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7926480" y="2098800"/>
          <a:ext cx="763560" cy="317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926480" y="2098800"/>
                    <a:ext cx="7635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3691080" y="5662440"/>
          <a:ext cx="3068640" cy="5810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691080" y="5662440"/>
                    <a:ext cx="30686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746360" y="5005440"/>
          <a:ext cx="373536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5005440"/>
                    <a:ext cx="373536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314440" y="5172120"/>
          <a:ext cx="26956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4440" y="5172120"/>
                    <a:ext cx="26956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81040" y="1050840"/>
          <a:ext cx="694044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" y="1050840"/>
                    <a:ext cx="694044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Etiquetagem e Propagação de custos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262640" y="1992240"/>
          <a:ext cx="139716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62640" y="1992240"/>
                    <a:ext cx="13971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7137360" y="2189160"/>
          <a:ext cx="117468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37360" y="2189160"/>
                    <a:ext cx="11746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757600" y="4425840"/>
          <a:ext cx="1755720" cy="1100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57600" y="4425840"/>
                    <a:ext cx="17557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002040" y="1438200"/>
          <a:ext cx="9396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02040" y="1438200"/>
                    <a:ext cx="9396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916360" y="5981760"/>
          <a:ext cx="1063440" cy="87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16360" y="5981760"/>
                    <a:ext cx="10634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618240" y="1763640"/>
          <a:ext cx="792360" cy="865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18240" y="1763640"/>
                    <a:ext cx="79236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447920" y="3370320"/>
          <a:ext cx="3487680" cy="579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47920" y="3370320"/>
                    <a:ext cx="3487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803160" y="3822840"/>
          <a:ext cx="5121360" cy="803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3160" y="3822840"/>
                    <a:ext cx="51213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657440" y="2185920"/>
          <a:ext cx="3735360" cy="890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657440" y="2185920"/>
                    <a:ext cx="373536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2103480" y="2178000"/>
          <a:ext cx="2658960" cy="1681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03480" y="2178000"/>
                    <a:ext cx="265896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658880" y="4168800"/>
          <a:ext cx="4427640" cy="593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58880" y="4168800"/>
                    <a:ext cx="44276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19:04:08Z</dcterms:created>
  <dc:creator>Nuno Silva</dc:creator>
  <dc:description/>
  <dc:language>en-US</dc:language>
  <cp:lastModifiedBy>PCIGB10</cp:lastModifiedBy>
  <cp:lastPrinted>1999-02-25T22:17:56Z</cp:lastPrinted>
  <dcterms:modified xsi:type="dcterms:W3CDTF">2000-01-10T17:25:05Z</dcterms:modified>
  <cp:revision>532</cp:revision>
  <dc:subject/>
  <dc:title>No Slide Title</dc:title>
</cp:coreProperties>
</file>