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69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2F23FC8-E292-4DD2-8FE1-C07622151CB4}" type="datetime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CD6422A-BC56-47A7-9253-986A8666D07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Sub-especificação de endereços, de holons competentes, competência por holon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Descentralização de competências, ou seja diferentes holons a realizar a mesma taref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Coordenação e cooperação pois a descentralização impõe problemas de coerência no sistema, nomeadamente se existir redundâ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Autenticação mútua, no sentido de apresentarem credenciais de valid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Gestão? Individual, Centralizada, Distribuída, Híbrid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Publicação &amp; Distribuição? Individual, </a:t>
            </a:r>
            <a:r>
              <a:rPr b="0" i="1" lang="pt-PT" sz="1200" spc="-1" strike="noStrike">
                <a:solidFill>
                  <a:srgbClr val="000000"/>
                </a:solidFill>
                <a:latin typeface="Times New Roman"/>
              </a:rPr>
              <a:t>Blackboard*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, Híbrid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Descoberta? Individual, </a:t>
            </a:r>
            <a:r>
              <a:rPr b="0" i="1" lang="pt-PT" sz="1200" spc="-1" strike="noStrike">
                <a:solidFill>
                  <a:srgbClr val="000000"/>
                </a:solidFill>
                <a:latin typeface="Times New Roman"/>
              </a:rPr>
              <a:t>Brocker*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, Híbrid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Tipo? Específica, Genérica, Ontologia***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pt-PT" sz="1200" spc="-1" strike="noStrike">
                <a:solidFill>
                  <a:srgbClr val="000000"/>
                </a:solidFill>
                <a:latin typeface="Times New Roman"/>
              </a:rPr>
              <a:t>Blackboard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 corresponde ao conceito de quadro de anúncios, onde cada entidade poderá requisitar ou pesquisar informaçã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0" i="1" lang="pt-PT" sz="12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 corresponde ao conceito de corrector, ou seja, uma entidade que é responsabilizada pela persecução de objectivos que serão sempre report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*** Ontologia corresponde a informação acerca da informação, sentido a da à informação. Denomina-se em inteligência artificial por meta-inform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Complexidade tecnológica, que implica a incapacidade de domínio de todas as tecnologias por parte da mesma entid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Aumento da diversidade de produtos no tempo implica que a empresa tenha capacidade de reagir/produzir (time-to-market) muito mais rapidam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Expansão das cadeias de forne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Distribuição e Descentralização: (ver anexo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Comunicação avançada: Conversações e negociações dinâmicas e sub-especificadas. Não se consideram as comunicações estruturais como um requisito mas sim um pressupos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Estaticismo, devido essencialmente ao endereç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Fiabilidade, pois se falha algo do que estava previsto, nada funci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Segurança, o que é que impede a Z fazer-se passar por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Coerência, pois existindo no sistema todas as funcionalidades previstas, no limite nada é acessí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 Protocolo privado entre servidores de identificaçã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 Cada HNS interliga-se com todos os outros existentes no domíni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 A interligação entre domínios é realizada através de holons que pertencem a vários domín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 O processo inclui 3 fa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Identificação relaciona o holon com a permissão de pertencer à holarqui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Autenticação diz respeito às trocas de garantias de cada interveniente no sentido da validação mutu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Registo, corresponde à aceitação e registo mútuo de inform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 Cada holon pertence a vários domínio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 Por cada domínio o holon apenas tem uma conexão ao H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 O protocolo prevê as três fases do protocolo provado e ainda a verificação de registo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47520" y="420192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044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868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984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4752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868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984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847520" y="1819080"/>
            <a:ext cx="6953400" cy="45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69534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61440" y="256680"/>
            <a:ext cx="8439480" cy="3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47520" y="1819080"/>
            <a:ext cx="6953400" cy="45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1044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847520" y="420192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1044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9868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49840" y="181908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84752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9868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49840" y="4201920"/>
            <a:ext cx="223884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69534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1440" y="256680"/>
            <a:ext cx="8439480" cy="3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0440" y="420192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4752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0440" y="1819080"/>
            <a:ext cx="33930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47520" y="4201920"/>
            <a:ext cx="6953400" cy="21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5f1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47520" y="1819080"/>
            <a:ext cx="69534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1" marL="676080" indent="-25992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2" marL="1040040" indent="-20772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3" marL="1455840" indent="-20772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4" marL="1872000" indent="-207720">
              <a:lnSpc>
                <a:spcPct val="110000"/>
              </a:lnSpc>
              <a:spcBef>
                <a:spcPts val="7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5" marL="1872000" indent="-20772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6" marL="1872000" indent="-207720">
              <a:lnSpc>
                <a:spcPct val="110000"/>
              </a:lnSpc>
              <a:spcBef>
                <a:spcPts val="799"/>
              </a:spcBef>
              <a:buClr>
                <a:srgbClr val="66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"/>
          <p:cNvSpPr/>
          <p:nvPr/>
        </p:nvSpPr>
        <p:spPr>
          <a:xfrm>
            <a:off x="438120" y="998640"/>
            <a:ext cx="8363160" cy="2588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9680" y="648180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C626-42B9-4891-9862-82CF2574B1C1}" type="slidenum">
              <a:rPr b="1" lang="pt-PT" sz="10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5f1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120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3" name=""/>
          <p:cNvSpPr/>
          <p:nvPr/>
        </p:nvSpPr>
        <p:spPr>
          <a:xfrm>
            <a:off x="885960" y="3271680"/>
            <a:ext cx="7381800" cy="1828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1" marL="457200" indent="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Garamond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3" marL="1371600" algn="ctr">
              <a:lnSpc>
                <a:spcPct val="11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Garamond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Garamond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0000ff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aramond"/>
              </a:rPr>
              <a:t>Fifth Outline Level</a:t>
            </a:r>
            <a:endParaRPr b="1" lang="en-US" sz="1600" spc="-1" strike="noStrike">
              <a:solidFill>
                <a:srgbClr val="0000ff"/>
              </a:solidFill>
              <a:latin typeface="Garamond"/>
            </a:endParaRPr>
          </a:p>
          <a:p>
            <a:pPr lvl="5" marL="1828800">
              <a:spcBef>
                <a:spcPts val="400"/>
              </a:spcBef>
              <a:buClr>
                <a:srgbClr val="66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aramond"/>
              </a:rPr>
              <a:t>Sixth Outline Level</a:t>
            </a:r>
            <a:endParaRPr b="1" lang="en-US" sz="1600" spc="-1" strike="noStrike">
              <a:solidFill>
                <a:srgbClr val="0000ff"/>
              </a:solidFill>
              <a:latin typeface="Garamond"/>
            </a:endParaRPr>
          </a:p>
          <a:p>
            <a:pPr lvl="6" marL="1828800">
              <a:spcBef>
                <a:spcPts val="400"/>
              </a:spcBef>
              <a:buClr>
                <a:srgbClr val="66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aramond"/>
              </a:rPr>
              <a:t>Seventh Outline Level</a:t>
            </a:r>
            <a:endParaRPr b="1" lang="en-US" sz="1600" spc="-1" strike="noStrike">
              <a:solidFill>
                <a:srgbClr val="0000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0.wmf"/><Relationship Id="rId2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0.wmf"/><Relationship Id="rId2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91.wmf"/><Relationship Id="rId4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.wmf"/><Relationship Id="rId37" Type="http://schemas.openxmlformats.org/officeDocument/2006/relationships/slideLayout" Target="../slideLayouts/slideLayout5.xml"/><Relationship Id="rId3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9.wmf"/><Relationship Id="rId41" Type="http://schemas.openxmlformats.org/officeDocument/2006/relationships/slideLayout" Target="../slideLayouts/slideLayout3.xml"/><Relationship Id="rId4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8760" y="507600"/>
            <a:ext cx="781524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Agentes Cooperativos</a:t>
            </a:r>
            <a:br>
              <a:rPr sz="3600"/>
            </a:b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num ambiente dinâmico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979360" y="3474720"/>
            <a:ext cx="5335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Arial"/>
              </a:rPr>
              <a:t>Nuno Silva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0" name=""/>
          <p:cNvSpPr/>
          <p:nvPr/>
        </p:nvSpPr>
        <p:spPr>
          <a:xfrm>
            <a:off x="2387520" y="4600440"/>
            <a:ext cx="456588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Times New Roman"/>
              </a:rPr>
              <a:t>Agentes Inteligentes e Sistemas Cooperativos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Times New Roman"/>
              </a:rPr>
              <a:t>DEI- ISEP- IPP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0000"/>
                </a:solidFill>
                <a:latin typeface="Times New Roman"/>
              </a:rPr>
              <a:t>03 de Novembro de 1999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9120" y="2077920"/>
            <a:ext cx="7815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Garamond"/>
              </a:rPr>
              <a:t>Servicos Complementar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Serviço de Identificação (4)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0" name=""/>
          <p:cNvSpPr/>
          <p:nvPr/>
        </p:nvSpPr>
        <p:spPr>
          <a:xfrm>
            <a:off x="4633920" y="2178000"/>
            <a:ext cx="36831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Sub-especificaçã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Descentralizaçã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Coordenaçã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Autenticaçã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90640" y="2178000"/>
            <a:ext cx="293040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Estaticism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Fiabilida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Coerênci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Seguranç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178000"/>
            <a:ext cx="63972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Serviço de Informação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5" name=""/>
          <p:cNvSpPr/>
          <p:nvPr/>
        </p:nvSpPr>
        <p:spPr>
          <a:xfrm>
            <a:off x="606600" y="1414440"/>
            <a:ext cx="4470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Garamond"/>
              </a:rPr>
              <a:t>Gestão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4000" y="1452600"/>
            <a:ext cx="4146840" cy="40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274320" indent="-2743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ff"/>
                </a:solidFill>
                <a:latin typeface="Garamond"/>
              </a:rPr>
              <a:t>Individual, Distribuída, (Des) Centralizada ?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6600" y="1928880"/>
            <a:ext cx="4782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Garamond"/>
              </a:rPr>
              <a:t>Publicação &amp; Distribuição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6600" y="2443320"/>
            <a:ext cx="2782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Garamond"/>
              </a:rPr>
              <a:t>Descoberta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6600" y="2971800"/>
            <a:ext cx="3735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Garamond"/>
              </a:rPr>
              <a:t>Tipo de informação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61080" y="1981080"/>
            <a:ext cx="3054240" cy="38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  <a:effectLst>
            <a:outerShdw dist="63504" dir="3183908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marL="260640" indent="-260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ff"/>
                </a:solidFill>
                <a:latin typeface="Garamond"/>
              </a:rPr>
              <a:t>Individual, </a:t>
            </a:r>
            <a:r>
              <a:rPr b="1" i="1" lang="pt-PT" sz="1600" spc="-1" strike="noStrike">
                <a:solidFill>
                  <a:srgbClr val="0000ff"/>
                </a:solidFill>
                <a:latin typeface="Garamond"/>
              </a:rPr>
              <a:t>Blackboard</a:t>
            </a:r>
            <a:r>
              <a:rPr b="1" lang="pt-PT" sz="1600" spc="-1" strike="noStrike">
                <a:solidFill>
                  <a:srgbClr val="0000ff"/>
                </a:solidFill>
                <a:latin typeface="Garamond"/>
              </a:rPr>
              <a:t>, Híbrida?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4680" y="2514600"/>
            <a:ext cx="282420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  <a:effectLst>
            <a:outerShdw dist="63504" dir="3183908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ff"/>
                </a:solidFill>
                <a:latin typeface="Garamond"/>
              </a:rPr>
              <a:t>Individual, </a:t>
            </a:r>
            <a:r>
              <a:rPr b="1" i="1" lang="pt-PT" sz="1600" spc="-1" strike="noStrike">
                <a:solidFill>
                  <a:srgbClr val="0000ff"/>
                </a:solidFill>
                <a:latin typeface="Garamond"/>
              </a:rPr>
              <a:t>Broker</a:t>
            </a:r>
            <a:r>
              <a:rPr b="1" lang="pt-PT" sz="1600" spc="-1" strike="noStrike">
                <a:solidFill>
                  <a:srgbClr val="0000ff"/>
                </a:solidFill>
                <a:latin typeface="Garamond"/>
              </a:rPr>
              <a:t>, Híbrida?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73800" y="3024360"/>
            <a:ext cx="30556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  <a:effectLst>
            <a:outerShdw dist="63504" dir="3183908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marL="260640" indent="-260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ff"/>
                </a:solidFill>
                <a:latin typeface="Garamond"/>
              </a:rPr>
              <a:t>Limitada, Genérica, Ontologias?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98640" y="4392720"/>
            <a:ext cx="5411880" cy="1708200"/>
            <a:chOff x="1898640" y="4392720"/>
            <a:chExt cx="5411880" cy="1708200"/>
          </a:xfrm>
        </p:grpSpPr>
        <p:sp>
          <p:nvSpPr>
            <p:cNvPr id="235" name=""/>
            <p:cNvSpPr/>
            <p:nvPr/>
          </p:nvSpPr>
          <p:spPr>
            <a:xfrm>
              <a:off x="1898640" y="4392720"/>
              <a:ext cx="328608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 u="sng">
                  <a:solidFill>
                    <a:srgbClr val="0000ff"/>
                  </a:solidFill>
                  <a:uFillTx/>
                  <a:latin typeface="Garamond"/>
                </a:rPr>
                <a:t>Problemas: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ff"/>
                  </a:solidFill>
                  <a:latin typeface="Garamond"/>
                </a:rPr>
                <a:t>Generalidade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499"/>
                </a:spcBef>
                <a:buClr>
                  <a:srgbClr val="ff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ff"/>
                  </a:solidFill>
                  <a:latin typeface="Garamond"/>
                </a:rPr>
                <a:t>Coerência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499"/>
                </a:spcBef>
                <a:buClr>
                  <a:srgbClr val="ff0000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ff"/>
                  </a:solidFill>
                  <a:latin typeface="Garamond"/>
                </a:rPr>
                <a:t>Transparência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24440" y="4392720"/>
              <a:ext cx="3286080" cy="17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0000"/>
                </a:buClr>
                <a:buFont typeface="Garamond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ff"/>
                  </a:solidFill>
                  <a:latin typeface="Garamond"/>
                </a:rPr>
                <a:t>Fiabilidade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0000"/>
                </a:buClr>
                <a:buFont typeface="Garamond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ff"/>
                  </a:solidFill>
                  <a:latin typeface="Garamond"/>
                </a:rPr>
                <a:t>Segurança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0000"/>
                </a:buClr>
                <a:buFont typeface="Garamond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ff"/>
                  </a:solidFill>
                  <a:latin typeface="Garamond"/>
                </a:rPr>
                <a:t>Desempenho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Serviço de Informação (2)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6327720" y="2259360"/>
            <a:ext cx="2319480" cy="2980440"/>
          </a:xfrm>
          <a:prstGeom prst="rect">
            <a:avLst/>
          </a:prstGeom>
          <a:solidFill>
            <a:srgbClr val="00ffff"/>
          </a:solidFill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2400" spc="-1" strike="noStrike">
                <a:solidFill>
                  <a:srgbClr val="0000ff"/>
                </a:solidFill>
                <a:latin typeface="Times New Roman"/>
              </a:rPr>
              <a:t>Generalidad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Times New Roman"/>
              </a:rPr>
              <a:t>Transparênci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47840" y="5502240"/>
            <a:ext cx="5156280" cy="800280"/>
          </a:xfrm>
          <a:prstGeom prst="rect">
            <a:avLst/>
          </a:prstGeom>
        </p:spPr>
        <p:txBody>
          <a:bodyPr wrap="none" lIns="0" rIns="0" tIns="0" bIns="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ntegração</a:t>
            </a:r>
            <a:endParaRPr b="0" i="1" lang="en-US" sz="2400" spc="1" strike="noStrike">
              <a:ln w="9360">
                <a:solidFill>
                  <a:srgbClr val="6600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8320" y="2158200"/>
            <a:ext cx="2319480" cy="2963520"/>
          </a:xfrm>
          <a:prstGeom prst="rect">
            <a:avLst/>
          </a:prstGeom>
          <a:solidFill>
            <a:srgbClr val="00ffff"/>
          </a:solidFill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Times New Roman"/>
              </a:rPr>
              <a:t>Generalidad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Times New Roman"/>
              </a:rPr>
              <a:t>Coerênci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Times New Roman"/>
              </a:rPr>
              <a:t>Transparênci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Times New Roman"/>
              </a:rPr>
              <a:t>Fiabilidad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Times New Roman"/>
              </a:rPr>
              <a:t>Seguranç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Times New Roman"/>
              </a:rPr>
              <a:t>Desempenh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935440" y="1277640"/>
            <a:ext cx="3359160" cy="3321360"/>
            <a:chOff x="2935440" y="1277640"/>
            <a:chExt cx="3359160" cy="3321360"/>
          </a:xfrm>
        </p:grpSpPr>
        <p:grpSp>
          <p:nvGrpSpPr>
            <p:cNvPr id="243" name=""/>
            <p:cNvGrpSpPr/>
            <p:nvPr/>
          </p:nvGrpSpPr>
          <p:grpSpPr>
            <a:xfrm>
              <a:off x="3155760" y="1277640"/>
              <a:ext cx="2605320" cy="1444320"/>
              <a:chOff x="3155760" y="1277640"/>
              <a:chExt cx="2605320" cy="1444320"/>
            </a:xfrm>
          </p:grpSpPr>
          <p:sp>
            <p:nvSpPr>
              <p:cNvPr id="244" name=""/>
              <p:cNvSpPr/>
              <p:nvPr/>
            </p:nvSpPr>
            <p:spPr>
              <a:xfrm flipV="1" rot="5400000">
                <a:off x="3931920" y="1330560"/>
                <a:ext cx="973800" cy="1808280"/>
              </a:xfrm>
              <a:custGeom>
                <a:avLst/>
                <a:gdLst>
                  <a:gd name="textAreaLeft" fmla="*/ 0 w 973800"/>
                  <a:gd name="textAreaRight" fmla="*/ 973800 w 973800"/>
                  <a:gd name="textAreaTop" fmla="*/ -360 h 1808280"/>
                  <a:gd name="textAreaBottom" fmla="*/ 1808280 h 18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061" y="0"/>
                    </a:lnTo>
                    <a:lnTo>
                      <a:pt x="21600" y="10800"/>
                    </a:lnTo>
                    <a:lnTo>
                      <a:pt x="16061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 vert="eaVer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600" spc="-1" strike="noStrike">
                    <a:solidFill>
                      <a:srgbClr val="ff0000"/>
                    </a:solidFill>
                    <a:latin typeface="Times New Roman"/>
                  </a:rPr>
                  <a:t>Dinamismo</a:t>
                </a:r>
                <a:br>
                  <a:rPr sz="1600"/>
                </a:br>
                <a:r>
                  <a:rPr b="1" lang="pt-PT" sz="1600" spc="-1" strike="noStrike">
                    <a:solidFill>
                      <a:srgbClr val="ff0000"/>
                    </a:solidFill>
                    <a:latin typeface="Times New Roman"/>
                  </a:rPr>
                  <a:t>Autenticação</a:t>
                </a:r>
                <a:br>
                  <a:rPr sz="1600"/>
                </a:br>
                <a:r>
                  <a:rPr b="1" lang="pt-PT" sz="1600" spc="-1" strike="noStrike">
                    <a:solidFill>
                      <a:srgbClr val="ff0000"/>
                    </a:solidFill>
                    <a:latin typeface="Times New Roman"/>
                  </a:rPr>
                  <a:t>Descentralização</a:t>
                </a:r>
                <a:br>
                  <a:rPr sz="1600"/>
                </a:br>
                <a:r>
                  <a:rPr b="1" lang="pt-PT" sz="1600" spc="-1" strike="noStrike">
                    <a:solidFill>
                      <a:srgbClr val="ff0000"/>
                    </a:solidFill>
                    <a:latin typeface="Times New Roman"/>
                  </a:rPr>
                  <a:t>Coordenação</a:t>
                </a:r>
                <a:endParaRPr b="0" lang="en-US" sz="1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55760" y="1277640"/>
                <a:ext cx="2605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2000" spc="-1" strike="noStrike">
                    <a:solidFill>
                      <a:srgbClr val="0000ff"/>
                    </a:solidFill>
                    <a:latin typeface="Times New Roman"/>
                  </a:rPr>
                  <a:t>Serviço de Identificação</a:t>
                </a: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935440" y="2695320"/>
              <a:ext cx="3359160" cy="1903680"/>
              <a:chOff x="2935440" y="2695320"/>
              <a:chExt cx="3359160" cy="1903680"/>
            </a:xfrm>
          </p:grpSpPr>
          <p:sp>
            <p:nvSpPr>
              <p:cNvPr id="247" name=""/>
              <p:cNvSpPr/>
              <p:nvPr/>
            </p:nvSpPr>
            <p:spPr>
              <a:xfrm>
                <a:off x="4606920" y="2916360"/>
                <a:ext cx="0" cy="14014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106880" y="3747600"/>
                <a:ext cx="847800" cy="484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106880" y="3644640"/>
                <a:ext cx="847800" cy="484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57920" y="2701800"/>
                <a:ext cx="0" cy="141948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89360" y="2863800"/>
                <a:ext cx="0" cy="1403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73600" y="2822400"/>
                <a:ext cx="0" cy="1403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61080" y="2771640"/>
                <a:ext cx="0" cy="1401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35440" y="3294000"/>
                <a:ext cx="3359160" cy="735120"/>
              </a:xfrm>
              <a:custGeom>
                <a:avLst/>
                <a:gdLst>
                  <a:gd name="textAreaLeft" fmla="*/ 524880 w 3359160"/>
                  <a:gd name="textAreaRight" fmla="*/ 2939400 w 3359160"/>
                  <a:gd name="textAreaTop" fmla="*/ 183600 h 735120"/>
                  <a:gd name="textAreaBottom" fmla="*/ 551520 h 73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106880" y="3296880"/>
                <a:ext cx="847800" cy="484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106880" y="3860280"/>
                <a:ext cx="847800" cy="484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106880" y="3981240"/>
                <a:ext cx="847800" cy="484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4106880" y="2945880"/>
                <a:ext cx="847800" cy="484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106880" y="2836440"/>
                <a:ext cx="847800" cy="484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4106880" y="3063600"/>
                <a:ext cx="847800" cy="484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4106880" y="3184200"/>
                <a:ext cx="847800" cy="484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94000" y="3143160"/>
                <a:ext cx="0" cy="1401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70320" y="3105000"/>
                <a:ext cx="0" cy="1401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9880" y="3060720"/>
                <a:ext cx="0" cy="1401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40240" y="3014640"/>
                <a:ext cx="0" cy="1403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27720" y="2946240"/>
                <a:ext cx="0" cy="1403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4098960" y="2695320"/>
                <a:ext cx="865080" cy="49356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4103640" y="4100400"/>
                <a:ext cx="865080" cy="49536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4106880" y="3774960"/>
                <a:ext cx="434880" cy="247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4106880" y="3657240"/>
                <a:ext cx="428760" cy="244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4111200" y="3179880"/>
                <a:ext cx="1800" cy="14191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Serviço de Informação (3)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558800" y="2333520"/>
          <a:ext cx="7147080" cy="37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2333520"/>
                    <a:ext cx="714708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417600" y="1420920"/>
            <a:ext cx="26463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Garamond"/>
              </a:rPr>
              <a:t>Generalidad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40440" y="5199120"/>
          <a:ext cx="60336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0440" y="5199120"/>
                    <a:ext cx="6033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908440" y="3797280"/>
          <a:ext cx="2844720" cy="100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8440" y="3797280"/>
                    <a:ext cx="28447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259080" y="4127400"/>
          <a:ext cx="224316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9080" y="4127400"/>
                    <a:ext cx="22431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3127320" y="2419200"/>
          <a:ext cx="3103560" cy="150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7320" y="2419200"/>
                    <a:ext cx="31035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656160" y="4427640"/>
          <a:ext cx="2124000" cy="876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6160" y="4427640"/>
                    <a:ext cx="21240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462480" y="3127320"/>
          <a:ext cx="2187360" cy="824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62480" y="3127320"/>
                    <a:ext cx="21873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7620120" y="3473280"/>
          <a:ext cx="1128600" cy="1098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0120" y="3473280"/>
                    <a:ext cx="112860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4248000" y="1776240"/>
          <a:ext cx="4878360" cy="15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8000" y="1776240"/>
                    <a:ext cx="48783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3166920" y="5214960"/>
          <a:ext cx="79704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6920" y="5214960"/>
                    <a:ext cx="7970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719680" y="2168640"/>
          <a:ext cx="1606680" cy="22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9680" y="2168640"/>
                    <a:ext cx="160668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Serviço de Informação (4)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98" name=""/>
          <p:cNvSpPr/>
          <p:nvPr/>
        </p:nvSpPr>
        <p:spPr>
          <a:xfrm>
            <a:off x="417600" y="1420920"/>
            <a:ext cx="31096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Garamond"/>
              </a:rPr>
              <a:t>Transparência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343240" y="2136600"/>
          <a:ext cx="1685880" cy="6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3240" y="2136600"/>
                    <a:ext cx="168588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3952800" y="2535120"/>
          <a:ext cx="2381400" cy="137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0" y="2535120"/>
                    <a:ext cx="23814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153200" y="2303640"/>
          <a:ext cx="1803600" cy="194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53200" y="2303640"/>
                    <a:ext cx="18036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730080" y="4416480"/>
          <a:ext cx="5207040" cy="224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0080" y="4416480"/>
                    <a:ext cx="520704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411200" y="5308560"/>
          <a:ext cx="1838520" cy="33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11200" y="5308560"/>
                    <a:ext cx="18385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82840" y="4405320"/>
          <a:ext cx="2127240" cy="1957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82840" y="4405320"/>
                    <a:ext cx="212724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3270240" y="4697280"/>
          <a:ext cx="2127240" cy="195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0240" y="4697280"/>
                    <a:ext cx="212724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424160" y="5630760"/>
          <a:ext cx="1838160" cy="333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24160" y="5630760"/>
                    <a:ext cx="18381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776840" y="4390920"/>
          <a:ext cx="1155600" cy="2246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76840" y="4390920"/>
                    <a:ext cx="115560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825560" y="2219400"/>
          <a:ext cx="2530440" cy="568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25560" y="2219400"/>
                    <a:ext cx="25304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987480" y="2341440"/>
          <a:ext cx="2147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341440"/>
                    <a:ext cx="2147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596880" y="1657440"/>
          <a:ext cx="6199200" cy="35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880" y="1657440"/>
                    <a:ext cx="61992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205080" y="2054160"/>
          <a:ext cx="2181240" cy="28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5080" y="2054160"/>
                    <a:ext cx="218124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62000" y="1384200"/>
          <a:ext cx="6958080" cy="472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000" y="1384200"/>
                    <a:ext cx="695808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822400" y="1635120"/>
          <a:ext cx="5996160" cy="354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22400" y="1635120"/>
                    <a:ext cx="599616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Escalonamento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30120" y="1805040"/>
            <a:ext cx="7883640" cy="4164120"/>
            <a:chOff x="330120" y="1805040"/>
            <a:chExt cx="7883640" cy="4164120"/>
          </a:xfrm>
        </p:grpSpPr>
        <p:graphicFrame>
          <p:nvGraphicFramePr>
            <p:cNvPr id="332" name=""/>
            <p:cNvGraphicFramePr/>
            <p:nvPr/>
          </p:nvGraphicFramePr>
          <p:xfrm>
            <a:off x="330120" y="3736800"/>
            <a:ext cx="4981680" cy="2232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0120" y="3736800"/>
                      <a:ext cx="4981680" cy="223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4" name=""/>
            <p:cNvGraphicFramePr/>
            <p:nvPr/>
          </p:nvGraphicFramePr>
          <p:xfrm>
            <a:off x="911160" y="2022480"/>
            <a:ext cx="5294520" cy="3106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911160" y="2022480"/>
                      <a:ext cx="5294520" cy="31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6" name=""/>
            <p:cNvGraphicFramePr/>
            <p:nvPr/>
          </p:nvGraphicFramePr>
          <p:xfrm>
            <a:off x="6394320" y="1805040"/>
            <a:ext cx="1819440" cy="3056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94320" y="1805040"/>
                      <a:ext cx="1819440" cy="30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8" name=""/>
          <p:cNvGraphicFramePr/>
          <p:nvPr/>
        </p:nvGraphicFramePr>
        <p:xfrm>
          <a:off x="3778200" y="2109960"/>
          <a:ext cx="2768760" cy="257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78200" y="2109960"/>
                    <a:ext cx="276876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7259760" y="5032440"/>
          <a:ext cx="1466640" cy="1350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59760" y="5032440"/>
                    <a:ext cx="146664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469800" y="1649520"/>
          <a:ext cx="8178840" cy="37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49520"/>
                    <a:ext cx="8178840" cy="37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600120" y="3233880"/>
          <a:ext cx="8569440" cy="32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120" y="3233880"/>
                    <a:ext cx="856944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417760" y="3141720"/>
          <a:ext cx="3646440" cy="275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7760" y="3141720"/>
                    <a:ext cx="364644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763560" y="1741320"/>
          <a:ext cx="3729240" cy="288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560" y="1741320"/>
                    <a:ext cx="372924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Escalonamento (2)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52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10480" y="3675240"/>
          <a:ext cx="747720" cy="25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10480" y="3675240"/>
                    <a:ext cx="7477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351560" y="3630600"/>
          <a:ext cx="1214640" cy="232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51560" y="3630600"/>
                    <a:ext cx="12146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595440" y="1371600"/>
          <a:ext cx="1336680" cy="107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5440" y="1371600"/>
                    <a:ext cx="13366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635120" y="2301840"/>
          <a:ext cx="866880" cy="79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35120" y="2301840"/>
                    <a:ext cx="8668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2446200" y="3089160"/>
          <a:ext cx="881280" cy="784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46200" y="3089160"/>
                    <a:ext cx="8812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2001960" y="3021120"/>
          <a:ext cx="790560" cy="452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01960" y="3021120"/>
                    <a:ext cx="7905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806560" y="2200320"/>
          <a:ext cx="1702080" cy="961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06560" y="2200320"/>
                    <a:ext cx="170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3703680" y="2728800"/>
          <a:ext cx="2381040" cy="50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03680" y="2728800"/>
                    <a:ext cx="238104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962440" y="3154320"/>
          <a:ext cx="2887560" cy="600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962440" y="3154320"/>
                    <a:ext cx="28875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959280" y="2173320"/>
          <a:ext cx="1917720" cy="839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59280" y="2173320"/>
                    <a:ext cx="19177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4076640" y="3137040"/>
          <a:ext cx="2916360" cy="2749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76640" y="3137040"/>
                    <a:ext cx="291636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1994040" y="4159080"/>
          <a:ext cx="647640" cy="2060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94040" y="4159080"/>
                    <a:ext cx="64764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808200" y="4290840"/>
          <a:ext cx="1257120" cy="16513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08200" y="4290840"/>
                    <a:ext cx="1257120" cy="16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986120" y="1992240"/>
          <a:ext cx="2514600" cy="425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86120" y="1992240"/>
                    <a:ext cx="25146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122800" y="1930320"/>
          <a:ext cx="3189240" cy="1067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122800" y="1930320"/>
                    <a:ext cx="31892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4075200" y="3138480"/>
          <a:ext cx="2916000" cy="27496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075200" y="3138480"/>
                    <a:ext cx="291600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2417760" y="3141720"/>
          <a:ext cx="3646440" cy="27590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417760" y="3141720"/>
                    <a:ext cx="364644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Conclusões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693440" y="1995120"/>
            <a:ext cx="69534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Serviço Identificação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Garamond"/>
              </a:rPr>
              <a:t>Dinâmico &amp; Sub-especificado</a:t>
            </a:r>
            <a:endParaRPr b="1" lang="en-US" sz="2000" spc="-1" strike="noStrike">
              <a:solidFill>
                <a:srgbClr val="0000ff"/>
              </a:solidFill>
              <a:latin typeface="Garamond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Garamond"/>
              </a:rPr>
              <a:t>Múltiplos &amp; Cooperantes</a:t>
            </a:r>
            <a:endParaRPr b="1" lang="en-US" sz="2000" spc="-1" strike="noStrike">
              <a:solidFill>
                <a:srgbClr val="0000ff"/>
              </a:solidFill>
              <a:latin typeface="Garamond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Garamond"/>
              </a:rPr>
              <a:t>Autenticação Mútua e Secundária</a:t>
            </a:r>
            <a:endParaRPr b="1" lang="en-US" sz="2000" spc="-1" strike="noStrike">
              <a:solidFill>
                <a:srgbClr val="0000ff"/>
              </a:solidFill>
              <a:latin typeface="Garamond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Garamond"/>
              </a:rPr>
              <a:t>Registo único</a:t>
            </a:r>
            <a:endParaRPr b="1" lang="en-US" sz="2000" spc="-1" strike="noStrike">
              <a:solidFill>
                <a:srgbClr val="0000ff"/>
              </a:solidFill>
              <a:latin typeface="Garamond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Garamond"/>
              </a:rPr>
              <a:t>Domínios</a:t>
            </a:r>
            <a:endParaRPr b="1" lang="en-US" sz="2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Conclusões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Conclusões (2)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1255680" y="1855800"/>
            <a:ext cx="695340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Serviço de Informaçã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ff"/>
                </a:solidFill>
                <a:uFillTx/>
                <a:latin typeface="Garamond"/>
              </a:rPr>
              <a:t>Integração com Serviço de Identificação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Garamond"/>
              </a:rPr>
              <a:t>Múltiplos, Redundantes &amp; Cooperante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Garamond"/>
              </a:rPr>
              <a:t>Publicação &amp; Distribuição por </a:t>
            </a:r>
            <a:r>
              <a:rPr b="1" i="1" lang="pt-PT" sz="2000" spc="-1" strike="noStrike">
                <a:solidFill>
                  <a:srgbClr val="0000ff"/>
                </a:solidFill>
                <a:latin typeface="Garamond"/>
              </a:rPr>
              <a:t>Blackboard</a:t>
            </a:r>
            <a:r>
              <a:rPr b="1" lang="pt-PT" sz="2000" spc="-1" strike="noStrike">
                <a:solidFill>
                  <a:srgbClr val="0000ff"/>
                </a:solidFill>
                <a:latin typeface="Garamond"/>
              </a:rPr>
              <a:t> ou Individual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Garamond"/>
              </a:rPr>
              <a:t>Tipo de informação evolutivo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Garamond"/>
              </a:rPr>
              <a:t>Pesquisa e Descoberta via </a:t>
            </a:r>
            <a:r>
              <a:rPr b="1" i="1" lang="pt-PT" sz="2000" spc="-1" strike="noStrike">
                <a:solidFill>
                  <a:srgbClr val="0000ff"/>
                </a:solidFill>
                <a:latin typeface="Garamond"/>
              </a:rPr>
              <a:t>Broker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Garamond"/>
              </a:rPr>
              <a:t>Validade temporal da informação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Conclusões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Introdução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47520" y="1919160"/>
            <a:ext cx="6953400" cy="38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Motivações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b2b2b2"/>
                </a:solidFill>
                <a:latin typeface="Garamond"/>
              </a:rPr>
              <a:t>Conceitos Propostos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Desenvolvimento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b2b2b2"/>
                </a:solidFill>
                <a:latin typeface="Garamond"/>
              </a:rPr>
              <a:t>Conclusões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b2b2b2"/>
                </a:solidFill>
                <a:latin typeface=""/>
              </a:rPr>
              <a:t>Direcções Futuras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6894360" y="1001880"/>
            <a:ext cx="1874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Introduçã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Observações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6896160" y="1001880"/>
            <a:ext cx="1874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Motivações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09640" y="3274920"/>
            <a:ext cx="5892840" cy="1336680"/>
            <a:chOff x="1709640" y="3274920"/>
            <a:chExt cx="5892840" cy="1336680"/>
          </a:xfrm>
        </p:grpSpPr>
        <p:sp>
          <p:nvSpPr>
            <p:cNvPr id="98" name=""/>
            <p:cNvSpPr/>
            <p:nvPr/>
          </p:nvSpPr>
          <p:spPr>
            <a:xfrm>
              <a:off x="1709640" y="3294000"/>
              <a:ext cx="2082600" cy="13161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74880" y="3274920"/>
              <a:ext cx="557280" cy="1079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047920" y="3274920"/>
              <a:ext cx="557280" cy="1079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519520" y="3295800"/>
              <a:ext cx="2082960" cy="13158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8560" y="1401840"/>
            <a:ext cx="8053200" cy="1752480"/>
            <a:chOff x="628560" y="1401840"/>
            <a:chExt cx="8053200" cy="1752480"/>
          </a:xfrm>
        </p:grpSpPr>
        <p:grpSp>
          <p:nvGrpSpPr>
            <p:cNvPr id="103" name=""/>
            <p:cNvGrpSpPr/>
            <p:nvPr/>
          </p:nvGrpSpPr>
          <p:grpSpPr>
            <a:xfrm>
              <a:off x="628560" y="1401840"/>
              <a:ext cx="1757160" cy="1752480"/>
              <a:chOff x="628560" y="1401840"/>
              <a:chExt cx="1757160" cy="1752480"/>
            </a:xfrm>
          </p:grpSpPr>
          <p:pic>
            <p:nvPicPr>
              <p:cNvPr id="104" name="bola4" descr=""/>
              <p:cNvPicPr/>
              <p:nvPr/>
            </p:nvPicPr>
            <p:blipFill>
              <a:blip r:embed="rId1"/>
              <a:stretch/>
            </p:blipFill>
            <p:spPr>
              <a:xfrm>
                <a:off x="642600" y="1401840"/>
                <a:ext cx="17431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628560" y="1739880"/>
                <a:ext cx="17571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2200" spc="-1" strike="noStrike">
                    <a:solidFill>
                      <a:srgbClr val="0000ff"/>
                    </a:solidFill>
                    <a:latin typeface="Garamond"/>
                  </a:rPr>
                  <a:t>Globalização da Economia</a:t>
                </a:r>
                <a:endParaRPr b="0" lang="en-US" sz="22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727360" y="1401840"/>
              <a:ext cx="1757160" cy="1752480"/>
              <a:chOff x="2727360" y="1401840"/>
              <a:chExt cx="1757160" cy="1752480"/>
            </a:xfrm>
          </p:grpSpPr>
          <p:pic>
            <p:nvPicPr>
              <p:cNvPr id="107" name="bola4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1400" y="1401840"/>
                <a:ext cx="17431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2727360" y="1572480"/>
                <a:ext cx="175716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2200" spc="-1" strike="noStrike">
                    <a:solidFill>
                      <a:srgbClr val="0000ff"/>
                    </a:solidFill>
                    <a:latin typeface="Garamond"/>
                  </a:rPr>
                  <a:t>Aumento das Exigências Sociais</a:t>
                </a:r>
                <a:endParaRPr b="0" lang="en-US" sz="22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924600" y="1401840"/>
              <a:ext cx="1757160" cy="1752480"/>
              <a:chOff x="6924600" y="1401840"/>
              <a:chExt cx="1757160" cy="1752480"/>
            </a:xfrm>
          </p:grpSpPr>
          <p:pic>
            <p:nvPicPr>
              <p:cNvPr id="110" name="bola4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8640" y="1401840"/>
                <a:ext cx="17431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6924600" y="1633680"/>
                <a:ext cx="17571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2000" spc="-1" strike="noStrike">
                    <a:solidFill>
                      <a:srgbClr val="0000ff"/>
                    </a:solidFill>
                    <a:latin typeface="Garamond"/>
                  </a:rPr>
                  <a:t>Aumento da Complexidade Tecnológica</a:t>
                </a: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825800" y="1401840"/>
              <a:ext cx="1757160" cy="1752480"/>
              <a:chOff x="4825800" y="1401840"/>
              <a:chExt cx="1757160" cy="1752480"/>
            </a:xfrm>
          </p:grpSpPr>
          <p:pic>
            <p:nvPicPr>
              <p:cNvPr id="113" name="bola4" descr=""/>
              <p:cNvPicPr/>
              <p:nvPr/>
            </p:nvPicPr>
            <p:blipFill>
              <a:blip r:embed="rId4"/>
              <a:stretch/>
            </p:blipFill>
            <p:spPr>
              <a:xfrm>
                <a:off x="4839840" y="1401840"/>
                <a:ext cx="17431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4825800" y="1786320"/>
                <a:ext cx="1757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2000" spc="-1" strike="noStrike">
                    <a:solidFill>
                      <a:srgbClr val="0000ff"/>
                    </a:solidFill>
                    <a:latin typeface="Garamond"/>
                  </a:rPr>
                  <a:t>Aumento da Diversidade de Produtos</a:t>
                </a: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3632040" y="4532400"/>
            <a:ext cx="2048040" cy="2047680"/>
            <a:chOff x="3632040" y="4532400"/>
            <a:chExt cx="2048040" cy="2047680"/>
          </a:xfrm>
        </p:grpSpPr>
        <p:pic>
          <p:nvPicPr>
            <p:cNvPr id="116" name="bola5" descr=""/>
            <p:cNvPicPr/>
            <p:nvPr/>
          </p:nvPicPr>
          <p:blipFill>
            <a:blip r:embed="rId5"/>
            <a:stretch/>
          </p:blipFill>
          <p:spPr>
            <a:xfrm>
              <a:off x="3632040" y="4532400"/>
              <a:ext cx="204804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659040" y="4874040"/>
              <a:ext cx="1990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ff"/>
                  </a:solidFill>
                  <a:latin typeface="Garamond"/>
                </a:rPr>
                <a:t>Produção Distribuída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Empresa Virtual é...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6129360" y="3776760"/>
            <a:ext cx="44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24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52560" y="1285920"/>
            <a:ext cx="74232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Garamond"/>
              </a:rPr>
              <a:t>Rede temporária de entidades;</a:t>
            </a:r>
            <a:endParaRPr b="0" lang="en-US" sz="2200" spc="-1" strike="noStrike">
              <a:solidFill>
                <a:srgbClr val="660066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Garamond"/>
              </a:rPr>
              <a:t>Autónomas ou semi-autónomas;</a:t>
            </a:r>
            <a:endParaRPr b="0" lang="en-US" sz="2200" spc="-1" strike="noStrike">
              <a:solidFill>
                <a:srgbClr val="660066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Garamond"/>
              </a:rPr>
              <a:t>Competentes em actividade produtivas específicas;</a:t>
            </a:r>
            <a:endParaRPr b="0" lang="en-US" sz="2200" spc="-1" strike="noStrike">
              <a:solidFill>
                <a:srgbClr val="660066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Garamond"/>
              </a:rPr>
              <a:t>Cooperantes e colectivamente responsáveis;</a:t>
            </a:r>
            <a:endParaRPr b="0" lang="en-US" sz="2200" spc="-1" strike="noStrike">
              <a:solidFill>
                <a:srgbClr val="660066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Garamond"/>
              </a:rPr>
              <a:t>Entre as quais fluem informação e produtos,</a:t>
            </a:r>
            <a:endParaRPr b="0" lang="en-US" sz="2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7880" y="3770280"/>
            <a:ext cx="744192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ff"/>
                </a:solidFill>
                <a:latin typeface="Garamond"/>
              </a:rPr>
              <a:t>Com os objectivos de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668520" indent="-25704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Garamond"/>
              </a:rPr>
              <a:t>Suprir incapacidades tecnológicas;</a:t>
            </a:r>
            <a:endParaRPr b="0" lang="en-US" sz="2200" spc="-1" strike="noStrike">
              <a:solidFill>
                <a:srgbClr val="660066"/>
              </a:solidFill>
              <a:latin typeface="Times New Roman"/>
            </a:endParaRPr>
          </a:p>
          <a:p>
            <a:pPr lvl="1" marL="668520" indent="-25704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Garamond"/>
              </a:rPr>
              <a:t>Diminuir custos e riscos individuais;</a:t>
            </a:r>
            <a:endParaRPr b="0" lang="en-US" sz="2200" spc="-1" strike="noStrike">
              <a:solidFill>
                <a:srgbClr val="660066"/>
              </a:solidFill>
              <a:latin typeface="Times New Roman"/>
            </a:endParaRPr>
          </a:p>
          <a:p>
            <a:pPr lvl="1" marL="668520" indent="-25704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Garamond"/>
              </a:rPr>
              <a:t>Atingir uma oportunidade momentânea de negócio.</a:t>
            </a:r>
            <a:endParaRPr b="0" lang="en-US" sz="2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96160" y="1001880"/>
            <a:ext cx="1874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Motivações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Requisitos tecnológicos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9440" y="1769760"/>
            <a:ext cx="677844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Distribuição e Descentralizaçã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Comunicação avançada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Gestão do conheciment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Flexibilidade e Reactividade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Coordenaçã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Modularizaçã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Sub-especificaçã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Modelação de entidades físicas em lógicas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4035600" y="4006800"/>
            <a:ext cx="4518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96160" y="1001880"/>
            <a:ext cx="1874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Motivações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Serviços estruturais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47520" y="1215720"/>
            <a:ext cx="69534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Identificação</a:t>
            </a:r>
            <a:endParaRPr b="1" lang="en-US" sz="3200" spc="-1" strike="noStrike">
              <a:solidFill>
                <a:srgbClr val="0000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Identificaçã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Autenticaçã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Registo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Domínios</a:t>
            </a:r>
            <a:endParaRPr b="1" lang="en-US" sz="24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47880" y="4057560"/>
            <a:ext cx="69534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ff"/>
                </a:solidFill>
                <a:latin typeface="Garamond"/>
              </a:rPr>
              <a:t>Informação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Gestã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Publicação &amp; Distribuiçã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Descobert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Serviço de Identificação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5022720" y="4467240"/>
            <a:ext cx="323856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ff"/>
                </a:solidFill>
                <a:uFillTx/>
                <a:latin typeface="Garamond"/>
              </a:rPr>
              <a:t>Problemas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Estaticism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Fiabilidad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Coerênci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Garamond"/>
              </a:rPr>
              <a:t>Seguranç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34800" y="1378080"/>
          <a:ext cx="53802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378080"/>
                    <a:ext cx="53802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22440" y="3308400"/>
          <a:ext cx="15192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2440" y="3308400"/>
                    <a:ext cx="1519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332240" y="4140360"/>
          <a:ext cx="456876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2240" y="4140360"/>
                    <a:ext cx="456876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68960" y="4133880"/>
          <a:ext cx="4568760" cy="20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8960" y="4133880"/>
                    <a:ext cx="456876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332240" y="4140360"/>
          <a:ext cx="4568760" cy="20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2240" y="4140360"/>
                    <a:ext cx="456876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Serviço de Identificação - Privado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801800" y="2214720"/>
          <a:ext cx="927000" cy="13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1800" y="2214720"/>
                    <a:ext cx="927000" cy="13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406520" y="3452760"/>
          <a:ext cx="1743120" cy="109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6520" y="3452760"/>
                    <a:ext cx="17431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93680" y="4467240"/>
          <a:ext cx="1222560" cy="131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3680" y="4467240"/>
                    <a:ext cx="12225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496960" y="1622520"/>
          <a:ext cx="1627200" cy="2431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96960" y="1622520"/>
                    <a:ext cx="162720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065480" y="1741320"/>
          <a:ext cx="1463760" cy="562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65480" y="1741320"/>
                    <a:ext cx="1463760" cy="5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218120" y="2227320"/>
          <a:ext cx="1947600" cy="1108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18120" y="2227320"/>
                    <a:ext cx="19476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895560" y="3262320"/>
          <a:ext cx="1872000" cy="1176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95560" y="3262320"/>
                    <a:ext cx="187200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85880" y="1415880"/>
          <a:ext cx="2316240" cy="927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5880" y="1415880"/>
                    <a:ext cx="231624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085760" y="1422360"/>
          <a:ext cx="277920" cy="69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85760" y="1422360"/>
                    <a:ext cx="2779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363680" y="1739880"/>
          <a:ext cx="1419120" cy="547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363680" y="1739880"/>
                    <a:ext cx="14191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889520" y="6060960"/>
          <a:ext cx="3494160" cy="455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889520" y="6060960"/>
                    <a:ext cx="349416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361120" y="4916520"/>
          <a:ext cx="2463840" cy="392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61120" y="4916520"/>
                    <a:ext cx="24638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361120" y="5218200"/>
          <a:ext cx="2473200" cy="447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361120" y="5218200"/>
                    <a:ext cx="24732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61120" y="5495760"/>
          <a:ext cx="2469960" cy="441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61120" y="5495760"/>
                    <a:ext cx="24699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361120" y="5824440"/>
          <a:ext cx="2482560" cy="3272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361120" y="5824440"/>
                    <a:ext cx="248256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613560" y="988920"/>
            <a:ext cx="211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639880" y="3902040"/>
          <a:ext cx="52009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3902040"/>
                    <a:ext cx="52009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639880" y="3902040"/>
          <a:ext cx="520092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9880" y="3902040"/>
                    <a:ext cx="52009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639880" y="3902040"/>
          <a:ext cx="5200920" cy="23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9880" y="3902040"/>
                    <a:ext cx="52009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1440" y="256680"/>
            <a:ext cx="84394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ff"/>
                </a:solidFill>
                <a:latin typeface="Garamond"/>
              </a:rPr>
              <a:t>Serviço de Identificação - Público</a:t>
            </a:r>
            <a:endParaRPr b="1" lang="en-US" sz="36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6607080" y="976320"/>
            <a:ext cx="21193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Garamond"/>
              </a:rPr>
              <a:t>Desenvolvimento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58880" y="1467000"/>
          <a:ext cx="1171440" cy="60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880" y="1467000"/>
                    <a:ext cx="11714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866960" y="1371600"/>
          <a:ext cx="1765080" cy="259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66960" y="1371600"/>
                    <a:ext cx="1765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181080" y="1847880"/>
            <a:ext cx="2238120" cy="4086360"/>
            <a:chOff x="181080" y="1847880"/>
            <a:chExt cx="2238120" cy="4086360"/>
          </a:xfrm>
        </p:grpSpPr>
        <p:graphicFrame>
          <p:nvGraphicFramePr>
            <p:cNvPr id="189" name=""/>
            <p:cNvGraphicFramePr/>
            <p:nvPr/>
          </p:nvGraphicFramePr>
          <p:xfrm>
            <a:off x="1054080" y="1847880"/>
            <a:ext cx="952560" cy="1568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54080" y="1847880"/>
                      <a:ext cx="952560" cy="15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558720" y="3327480"/>
            <a:ext cx="1860480" cy="11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58720" y="3327480"/>
                      <a:ext cx="1860480" cy="11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181080" y="4402080"/>
            <a:ext cx="1222200" cy="1532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81080" y="4402080"/>
                      <a:ext cx="1222200" cy="15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" name=""/>
          <p:cNvGraphicFramePr/>
          <p:nvPr/>
        </p:nvGraphicFramePr>
        <p:xfrm>
          <a:off x="2849400" y="1373040"/>
          <a:ext cx="2257560" cy="195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49400" y="1373040"/>
                    <a:ext cx="225756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040360" y="1386000"/>
          <a:ext cx="1492200" cy="606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40360" y="1386000"/>
                    <a:ext cx="14922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19920" y="1968480"/>
          <a:ext cx="1638360" cy="2146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19920" y="1968480"/>
                    <a:ext cx="163836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340760" y="3035160"/>
          <a:ext cx="1415880" cy="170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40760" y="3035160"/>
                    <a:ext cx="141588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389400" y="6064200"/>
          <a:ext cx="3898800" cy="50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89400" y="6064200"/>
                    <a:ext cx="3898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957480" y="4857840"/>
          <a:ext cx="2649600" cy="438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57480" y="4857840"/>
                    <a:ext cx="26496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957480" y="5194440"/>
          <a:ext cx="2673360" cy="500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957480" y="5194440"/>
                    <a:ext cx="2673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957480" y="5504040"/>
          <a:ext cx="2641680" cy="493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957480" y="5504040"/>
                    <a:ext cx="26416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957480" y="5872320"/>
          <a:ext cx="2654280" cy="363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957480" y="5872320"/>
                    <a:ext cx="265428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530520" y="2725560"/>
          <a:ext cx="1562040" cy="6019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30520" y="2725560"/>
                    <a:ext cx="15620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5022720" y="2711520"/>
          <a:ext cx="1494000" cy="627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022720" y="2711520"/>
                    <a:ext cx="14940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0" y="1258920"/>
          <a:ext cx="2147760" cy="7700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0" y="1258920"/>
                    <a:ext cx="21477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19:04:08Z</dcterms:created>
  <dc:creator>Nuno Silva</dc:creator>
  <dc:description/>
  <dc:language>en-US</dc:language>
  <cp:lastModifiedBy>ISEP</cp:lastModifiedBy>
  <cp:lastPrinted>1999-02-25T22:17:56Z</cp:lastPrinted>
  <dcterms:modified xsi:type="dcterms:W3CDTF">1999-11-03T12:49:07Z</dcterms:modified>
  <cp:revision>529</cp:revision>
  <dc:subject/>
  <dc:title>No Slide Title</dc:title>
</cp:coreProperties>
</file>